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15D0-AFCA-4608-BE40-14CB556BA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BD53-3D76-47BD-ABC1-54064AAA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98EA-FBD1-4C1B-8693-7AD4A9F86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FAB1-F062-49B6-84CB-699A8A2F2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7276-76CE-4DF4-B824-2DE19BBE1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9E15-04A9-4287-986C-6B4F9149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522F-AB16-44FF-BFBB-F58B4279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49B2-8098-4159-8F66-F4FEF2F2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4453-A551-4AAD-A052-E8544514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35B8-AAB9-4D29-B7E5-4A204868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3BAD-7EC6-43FF-B088-F1CC850D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C5D3-DBB0-4E50-837D-7C17D645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C268-A37A-47A8-BE41-6017DE1F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CB6C-D26A-4FCF-B60F-7D3094E1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DA07-60F5-42B3-82DD-22119A26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FD43-F7D3-496B-A3D9-B023CB70C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A6FE-6136-4DFD-BFEA-AEDAC8F7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5402-62BA-4F9D-9ED4-5E3BABF5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08C1-F5F4-4131-9D04-54AC4FFD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8F33-7ED6-4728-8AF8-6EB2E197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4AEE-0B3C-4B8B-83D4-5E786F35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8C68-4343-4F84-9FBF-E7F0E9B6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C01B-B21C-4C4D-AE63-092C7822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5A80-38AF-409B-A964-42E9CD6A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FA72-C197-489B-9D4E-F32F1FE8D6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0FD2-258D-4F11-870C-5198A1905E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137124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e7b835"/>
                </a:solidFill>
                <a:latin typeface="Tahoma"/>
              </a:rPr>
              <a:t>La red de áreas universitarias de vinculación tecnológica como núcleo de un sistema de extensión tecnológic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238880" y="6324120"/>
            <a:ext cx="1828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arlos Abele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956600" y="3687840"/>
            <a:ext cx="508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7b835"/>
                </a:solidFill>
                <a:latin typeface="Tahoma"/>
              </a:rPr>
              <a:t>Oportunidades y desafí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9b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00"/>
                </a:solidFill>
                <a:latin typeface="Tahoma"/>
              </a:rPr>
              <a:t>Oportunidades y desafío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Acceso a recursos técnicos extern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Base de información actualizada de capacidades existentes en el sistema de universid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Disposición de docentes e investigadores  a participar en solución de problemas identificados por las áreas de vinculación de otras universid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2743200" y="380880"/>
          <a:ext cx="3838680" cy="629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380880"/>
                    <a:ext cx="3838680" cy="62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 flipH="1">
            <a:off x="3352320" y="3352680"/>
            <a:ext cx="2057400" cy="2057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152880" y="2514600"/>
            <a:ext cx="703080" cy="703440"/>
            <a:chOff x="3152880" y="2514600"/>
            <a:chExt cx="703080" cy="703440"/>
          </a:xfrm>
        </p:grpSpPr>
        <p:sp>
          <p:nvSpPr>
            <p:cNvPr id="193" name=""/>
            <p:cNvSpPr/>
            <p:nvPr/>
          </p:nvSpPr>
          <p:spPr>
            <a:xfrm>
              <a:off x="3152880" y="2514600"/>
              <a:ext cx="703080" cy="703440"/>
            </a:xfrm>
            <a:prstGeom prst="ellipse">
              <a:avLst/>
            </a:prstGeom>
            <a:noFill/>
            <a:ln cap="sq" w="38160">
              <a:solidFill>
                <a:srgbClr val="2b54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76520" y="2895480"/>
              <a:ext cx="104760" cy="104760"/>
            </a:xfrm>
            <a:prstGeom prst="ellipse">
              <a:avLst/>
            </a:prstGeom>
            <a:solidFill>
              <a:srgbClr val="2b5481"/>
            </a:solidFill>
            <a:ln cap="sq" w="28440">
              <a:solidFill>
                <a:srgbClr val="2b54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5105520" y="2819520"/>
            <a:ext cx="703080" cy="703080"/>
          </a:xfrm>
          <a:prstGeom prst="ellipse">
            <a:avLst/>
          </a:prstGeom>
          <a:noFill/>
          <a:ln cap="sq" w="381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57960" y="3247920"/>
            <a:ext cx="104760" cy="104760"/>
          </a:xfrm>
          <a:prstGeom prst="ellipse">
            <a:avLst/>
          </a:prstGeom>
          <a:solidFill>
            <a:srgbClr val="2b5481"/>
          </a:solidFill>
          <a:ln cap="sq" w="2844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00240" y="5027760"/>
            <a:ext cx="703440" cy="703080"/>
          </a:xfrm>
          <a:prstGeom prst="ellipse">
            <a:avLst/>
          </a:prstGeom>
          <a:noFill/>
          <a:ln cap="sq" w="381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5334120"/>
            <a:ext cx="104760" cy="104760"/>
          </a:xfrm>
          <a:prstGeom prst="ellipse">
            <a:avLst/>
          </a:prstGeom>
          <a:solidFill>
            <a:srgbClr val="2b5481"/>
          </a:solidFill>
          <a:ln cap="sq" w="2844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43240" y="533520"/>
            <a:ext cx="703440" cy="703080"/>
          </a:xfrm>
          <a:prstGeom prst="ellipse">
            <a:avLst/>
          </a:prstGeom>
          <a:noFill/>
          <a:ln cap="sq" w="381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838080"/>
            <a:ext cx="104760" cy="104760"/>
          </a:xfrm>
          <a:prstGeom prst="ellipse">
            <a:avLst/>
          </a:prstGeom>
          <a:solidFill>
            <a:srgbClr val="2b5481"/>
          </a:solidFill>
          <a:ln cap="sq" w="2844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38880" y="1141560"/>
            <a:ext cx="703080" cy="703080"/>
          </a:xfrm>
          <a:prstGeom prst="ellipse">
            <a:avLst/>
          </a:prstGeom>
          <a:noFill/>
          <a:ln cap="sq" w="381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867280" y="1523880"/>
            <a:ext cx="104760" cy="104760"/>
          </a:xfrm>
          <a:prstGeom prst="ellipse">
            <a:avLst/>
          </a:prstGeom>
          <a:solidFill>
            <a:srgbClr val="2b5481"/>
          </a:solidFill>
          <a:ln cap="sq" w="2844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504960" y="914400"/>
            <a:ext cx="1066680" cy="21337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429000" y="2971800"/>
            <a:ext cx="76320" cy="23623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486400" y="1599840"/>
            <a:ext cx="380880" cy="16765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4495320" y="914040"/>
            <a:ext cx="1295640" cy="6858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191120" y="1905120"/>
            <a:ext cx="703080" cy="703080"/>
            <a:chOff x="4191120" y="1905120"/>
            <a:chExt cx="703080" cy="703080"/>
          </a:xfrm>
        </p:grpSpPr>
        <p:sp>
          <p:nvSpPr>
            <p:cNvPr id="208" name=""/>
            <p:cNvSpPr/>
            <p:nvPr/>
          </p:nvSpPr>
          <p:spPr>
            <a:xfrm>
              <a:off x="4191120" y="1905120"/>
              <a:ext cx="703080" cy="703080"/>
            </a:xfrm>
            <a:prstGeom prst="ellipse">
              <a:avLst/>
            </a:prstGeom>
            <a:noFill/>
            <a:ln cap="sq" w="38160">
              <a:solidFill>
                <a:srgbClr val="2b54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572000" y="2286000"/>
              <a:ext cx="104760" cy="104760"/>
            </a:xfrm>
            <a:prstGeom prst="ellipse">
              <a:avLst/>
            </a:prstGeom>
            <a:solidFill>
              <a:srgbClr val="2b5481"/>
            </a:solidFill>
            <a:ln cap="sq" w="28440">
              <a:solidFill>
                <a:srgbClr val="2b54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 flipH="1" flipV="1">
            <a:off x="4572000" y="2361960"/>
            <a:ext cx="990720" cy="9903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428640" y="914040"/>
            <a:ext cx="2438280" cy="4420080"/>
            <a:chOff x="3428640" y="914040"/>
            <a:chExt cx="2438280" cy="4420080"/>
          </a:xfrm>
        </p:grpSpPr>
        <p:sp>
          <p:nvSpPr>
            <p:cNvPr id="212" name=""/>
            <p:cNvSpPr/>
            <p:nvPr/>
          </p:nvSpPr>
          <p:spPr>
            <a:xfrm flipH="1">
              <a:off x="3581280" y="2438280"/>
              <a:ext cx="990720" cy="53352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4801680" y="1600200"/>
              <a:ext cx="1065240" cy="8319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3428640" y="2438280"/>
              <a:ext cx="1219320" cy="289584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4572000" y="914040"/>
              <a:ext cx="0" cy="152388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3838680" y="3429000"/>
            <a:ext cx="703080" cy="703440"/>
          </a:xfrm>
          <a:prstGeom prst="ellipse">
            <a:avLst/>
          </a:prstGeom>
          <a:noFill/>
          <a:ln cap="sq" w="381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14800" y="3733920"/>
            <a:ext cx="104760" cy="104760"/>
          </a:xfrm>
          <a:prstGeom prst="ellipse">
            <a:avLst/>
          </a:prstGeom>
          <a:solidFill>
            <a:srgbClr val="2b5481"/>
          </a:solidFill>
          <a:ln cap="sq" w="2844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429000" y="837720"/>
            <a:ext cx="1066680" cy="44960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191120" y="3276720"/>
            <a:ext cx="1218960" cy="5331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76212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89154"/>
                </a:solidFill>
                <a:uFillTx/>
                <a:latin typeface="Tahoma"/>
              </a:rPr>
              <a:t>Red de Áreas de Vinculación Tecnológ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9b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9b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19810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7b835"/>
                </a:solidFill>
                <a:latin typeface="Tahoma"/>
              </a:rPr>
              <a:t>Las universidades como actores y promotoras de los procesos de desarrollo local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203480"/>
            <a:ext cx="3962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e7b835"/>
                </a:solidFill>
                <a:latin typeface="Tahoma"/>
              </a:rPr>
              <a:t>Primer</a:t>
            </a:r>
            <a:r>
              <a:rPr b="0" lang="es-ES" sz="1800" spc="-1" strike="noStrike">
                <a:solidFill>
                  <a:srgbClr val="e7b835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e7b835"/>
                </a:solidFill>
                <a:latin typeface="Tahoma"/>
              </a:rPr>
              <a:t>desafío:</a:t>
            </a:r>
            <a:br>
              <a:rPr sz="18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4800600"/>
            <a:ext cx="8076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4800600"/>
            <a:ext cx="8076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160020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7b835"/>
                </a:solidFill>
                <a:latin typeface="Tahoma"/>
              </a:rPr>
              <a:t>Innovación y cambio técnico son motores de desarrollo y crecimi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2004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7b835"/>
                </a:solidFill>
                <a:latin typeface="Tahoma"/>
              </a:rPr>
              <a:t>Sin embargo, debemos superar un enfoque “lineal ofertista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23880" y="1447920"/>
            <a:ext cx="6934320" cy="799920"/>
          </a:xfrm>
          <a:prstGeom prst="rect">
            <a:avLst/>
          </a:prstGeom>
          <a:solidFill>
            <a:srgbClr val="bcf6fe">
              <a:alpha val="52000"/>
            </a:srgbClr>
          </a:solidFill>
          <a:ln w="19080">
            <a:solidFill>
              <a:srgbClr val="004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Arial"/>
                <a:ea typeface="Lucida Sans Unicode"/>
              </a:rPr>
              <a:t>Conoci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1880" y="1295280"/>
            <a:ext cx="1800" cy="800280"/>
          </a:xfrm>
          <a:prstGeom prst="line">
            <a:avLst/>
          </a:prstGeom>
          <a:ln w="19080">
            <a:solidFill>
              <a:srgbClr val="e9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28600" y="4724280"/>
            <a:ext cx="8686440" cy="2133000"/>
            <a:chOff x="228600" y="4724280"/>
            <a:chExt cx="8686440" cy="2133000"/>
          </a:xfrm>
        </p:grpSpPr>
        <p:sp>
          <p:nvSpPr>
            <p:cNvPr id="94" name=""/>
            <p:cNvSpPr/>
            <p:nvPr/>
          </p:nvSpPr>
          <p:spPr>
            <a:xfrm>
              <a:off x="228600" y="4724280"/>
              <a:ext cx="8685000" cy="2129040"/>
            </a:xfrm>
            <a:prstGeom prst="rect">
              <a:avLst/>
            </a:prstGeom>
            <a:solidFill>
              <a:srgbClr val="f9fe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6812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cc3300"/>
                  </a:solidFill>
                  <a:latin typeface="Arial"/>
                  <a:ea typeface="Lucida Sans Unicode"/>
                </a:rPr>
                <a:t>“</a:t>
              </a:r>
              <a:r>
                <a:rPr b="1" lang="es-ES" sz="2800" spc="-1" strike="noStrike">
                  <a:solidFill>
                    <a:srgbClr val="cc3300"/>
                  </a:solidFill>
                  <a:latin typeface="Arial"/>
                  <a:ea typeface="Lucida Sans Unicode"/>
                </a:rPr>
                <a:t>Sector Productivo” :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681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800" spc="-1" strike="noStrike">
                  <a:solidFill>
                    <a:srgbClr val="cc3300"/>
                  </a:solidFill>
                  <a:latin typeface="Arial"/>
                  <a:ea typeface="Lucida Sans Unicode"/>
                </a:rPr>
                <a:t>empresas, cooperativas, gremios, asociaciones profesionales, trabajadores informales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600" y="4724280"/>
              <a:ext cx="8685000" cy="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8600" y="6853320"/>
              <a:ext cx="8685000" cy="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8600" y="4724280"/>
              <a:ext cx="1440" cy="212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913600" y="4724280"/>
              <a:ext cx="1440" cy="212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828800" y="990360"/>
            <a:ext cx="1141200" cy="760680"/>
            <a:chOff x="1828800" y="990360"/>
            <a:chExt cx="1141200" cy="760680"/>
          </a:xfrm>
        </p:grpSpPr>
        <p:sp>
          <p:nvSpPr>
            <p:cNvPr id="100" name=""/>
            <p:cNvSpPr/>
            <p:nvPr/>
          </p:nvSpPr>
          <p:spPr>
            <a:xfrm flipV="1">
              <a:off x="2361600" y="990360"/>
              <a:ext cx="608400" cy="684360"/>
            </a:xfrm>
            <a:prstGeom prst="line">
              <a:avLst/>
            </a:prstGeom>
            <a:ln w="19080">
              <a:solidFill>
                <a:srgbClr val="c2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1828800" y="990720"/>
              <a:ext cx="608400" cy="760320"/>
            </a:xfrm>
            <a:prstGeom prst="line">
              <a:avLst/>
            </a:prstGeom>
            <a:ln w="15840">
              <a:solidFill>
                <a:srgbClr val="c2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971800" y="1981080"/>
            <a:ext cx="1445760" cy="3275280"/>
            <a:chOff x="2971800" y="1981080"/>
            <a:chExt cx="1445760" cy="3275280"/>
          </a:xfrm>
        </p:grpSpPr>
        <p:sp>
          <p:nvSpPr>
            <p:cNvPr id="103" name=""/>
            <p:cNvSpPr/>
            <p:nvPr/>
          </p:nvSpPr>
          <p:spPr>
            <a:xfrm flipV="1">
              <a:off x="2971800" y="1981080"/>
              <a:ext cx="1065600" cy="3275280"/>
            </a:xfrm>
            <a:prstGeom prst="line">
              <a:avLst/>
            </a:prstGeom>
            <a:ln w="19080">
              <a:solidFill>
                <a:srgbClr val="94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3276000" y="2057040"/>
              <a:ext cx="1141560" cy="3198960"/>
            </a:xfrm>
            <a:prstGeom prst="line">
              <a:avLst/>
            </a:prstGeom>
            <a:ln w="19080">
              <a:solidFill>
                <a:srgbClr val="94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295280" y="76212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2743200"/>
            <a:ext cx="3751200" cy="17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85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  <a:tab algn="l" pos="102870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rvicios tecnológic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85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  <a:tab algn="l" pos="102870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consultorí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85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  <a:tab algn="l" pos="102870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contratos de I+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85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  <a:tab algn="l" pos="102870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cubación de empresa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24280" y="1219320"/>
            <a:ext cx="180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685800"/>
            <a:ext cx="6324480" cy="762120"/>
          </a:xfrm>
          <a:prstGeom prst="rect">
            <a:avLst/>
          </a:prstGeom>
          <a:solidFill>
            <a:srgbClr val="90dab5">
              <a:alpha val="34000"/>
            </a:srgbClr>
          </a:solidFill>
          <a:ln w="19080">
            <a:solidFill>
              <a:srgbClr val="004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Arial"/>
                <a:ea typeface="Lucida Sans Unicode"/>
              </a:rPr>
              <a:t>Investig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114800" y="1219320"/>
            <a:ext cx="4113000" cy="4036680"/>
            <a:chOff x="4114800" y="1219320"/>
            <a:chExt cx="4113000" cy="4036680"/>
          </a:xfrm>
        </p:grpSpPr>
        <p:sp>
          <p:nvSpPr>
            <p:cNvPr id="110" name=""/>
            <p:cNvSpPr/>
            <p:nvPr/>
          </p:nvSpPr>
          <p:spPr>
            <a:xfrm>
              <a:off x="5638680" y="1295280"/>
              <a:ext cx="304920" cy="381240"/>
            </a:xfrm>
            <a:prstGeom prst="line">
              <a:avLst/>
            </a:prstGeom>
            <a:ln w="25560">
              <a:solidFill>
                <a:srgbClr val="01651b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4114800" y="1219320"/>
              <a:ext cx="4113000" cy="4036680"/>
              <a:chOff x="4114800" y="1219320"/>
              <a:chExt cx="4113000" cy="4036680"/>
            </a:xfrm>
          </p:grpSpPr>
          <p:sp>
            <p:nvSpPr>
              <p:cNvPr id="112" name=""/>
              <p:cNvSpPr/>
              <p:nvPr/>
            </p:nvSpPr>
            <p:spPr>
              <a:xfrm>
                <a:off x="4114800" y="1294920"/>
                <a:ext cx="304560" cy="380880"/>
              </a:xfrm>
              <a:prstGeom prst="line">
                <a:avLst/>
              </a:prstGeom>
              <a:ln w="25560">
                <a:solidFill>
                  <a:srgbClr val="01651b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647960" y="1294920"/>
                <a:ext cx="304200" cy="380880"/>
              </a:xfrm>
              <a:prstGeom prst="line">
                <a:avLst/>
              </a:prstGeom>
              <a:ln w="25560">
                <a:solidFill>
                  <a:srgbClr val="01651b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105160" y="1294920"/>
                <a:ext cx="228240" cy="304560"/>
              </a:xfrm>
              <a:prstGeom prst="line">
                <a:avLst/>
              </a:prstGeom>
              <a:ln w="25560">
                <a:solidFill>
                  <a:srgbClr val="01651b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247440" y="2057040"/>
                <a:ext cx="1065960" cy="3198960"/>
              </a:xfrm>
              <a:prstGeom prst="line">
                <a:avLst/>
              </a:prstGeom>
              <a:ln w="28440">
                <a:solidFill>
                  <a:srgbClr val="014d3b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085520" y="1219320"/>
                <a:ext cx="1142280" cy="3960720"/>
              </a:xfrm>
              <a:prstGeom prst="line">
                <a:avLst/>
              </a:prstGeom>
              <a:ln w="28440">
                <a:solidFill>
                  <a:srgbClr val="014d3b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" name=""/>
          <p:cNvSpPr/>
          <p:nvPr/>
        </p:nvSpPr>
        <p:spPr>
          <a:xfrm>
            <a:off x="380880" y="533520"/>
            <a:ext cx="838224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304920"/>
            <a:ext cx="7772400" cy="2133360"/>
          </a:xfrm>
          <a:prstGeom prst="rect">
            <a:avLst/>
          </a:prstGeom>
          <a:solidFill>
            <a:srgbClr val="c3f5ff">
              <a:alpha val="22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b5481"/>
                </a:solidFill>
                <a:latin typeface="Tahoma"/>
              </a:rPr>
              <a:t>Univers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886200" y="2819520"/>
            <a:ext cx="5257800" cy="1782720"/>
            <a:chOff x="3886200" y="2819520"/>
            <a:chExt cx="5257800" cy="1782720"/>
          </a:xfrm>
        </p:grpSpPr>
        <p:sp>
          <p:nvSpPr>
            <p:cNvPr id="122" name=""/>
            <p:cNvSpPr/>
            <p:nvPr/>
          </p:nvSpPr>
          <p:spPr>
            <a:xfrm>
              <a:off x="3886200" y="2819520"/>
              <a:ext cx="351000" cy="1603080"/>
            </a:xfrm>
            <a:custGeom>
              <a:avLst/>
              <a:gdLst>
                <a:gd name="textAreaLeft" fmla="*/ 0 w 351000"/>
                <a:gd name="textAreaRight" fmla="*/ 126720 w 351000"/>
                <a:gd name="textAreaTop" fmla="*/ 41760 h 1603080"/>
                <a:gd name="textAreaBottom" fmla="*/ 1561320 h 160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19720" y="3352680"/>
              <a:ext cx="472428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6d4a23"/>
                  </a:solidFill>
                  <a:latin typeface="Tahoma"/>
                </a:rPr>
                <a:t>extensión tecnológic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9b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Formación de profesion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Servicios tecnológ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Consultoría y asesora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Proyectos de I+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Incubación de empres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e7b835"/>
                </a:solidFill>
                <a:latin typeface="Tahoma"/>
              </a:rPr>
              <a:t>Articulación de universidades con el “sector productivo”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48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23880" y="16002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vers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1295280"/>
            <a:ext cx="4678200" cy="4678560"/>
          </a:xfrm>
          <a:prstGeom prst="ellipse">
            <a:avLst/>
          </a:pr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02240" y="4648320"/>
            <a:ext cx="701640" cy="701640"/>
          </a:xfrm>
          <a:prstGeom prst="ellipse">
            <a:avLst/>
          </a:prstGeom>
          <a:solidFill>
            <a:srgbClr val="2b5481"/>
          </a:solidFill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373640" y="4267080"/>
            <a:ext cx="2682720" cy="2590920"/>
            <a:chOff x="4373640" y="4267080"/>
            <a:chExt cx="2682720" cy="2590920"/>
          </a:xfrm>
        </p:grpSpPr>
        <p:sp>
          <p:nvSpPr>
            <p:cNvPr id="130" name=""/>
            <p:cNvSpPr/>
            <p:nvPr/>
          </p:nvSpPr>
          <p:spPr>
            <a:xfrm>
              <a:off x="5987880" y="5318280"/>
              <a:ext cx="6098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3300"/>
                  </a:solidFill>
                  <a:latin typeface="Arial"/>
                </a:rPr>
                <a:t>?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4541760" y="4419360"/>
              <a:ext cx="2514600" cy="2438640"/>
              <a:chOff x="4541760" y="4419360"/>
              <a:chExt cx="2514600" cy="2438640"/>
            </a:xfrm>
          </p:grpSpPr>
          <p:sp>
            <p:nvSpPr>
              <p:cNvPr id="132" name=""/>
              <p:cNvSpPr/>
              <p:nvPr/>
            </p:nvSpPr>
            <p:spPr>
              <a:xfrm flipH="1">
                <a:off x="5557680" y="5259600"/>
                <a:ext cx="1228680" cy="5400"/>
              </a:xfrm>
              <a:prstGeom prst="line">
                <a:avLst/>
              </a:prstGeom>
              <a:ln cap="sq" w="25560">
                <a:solidFill>
                  <a:srgbClr val="ffcc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5301360" y="5394240"/>
                <a:ext cx="1205640" cy="1315800"/>
                <a:chOff x="5301360" y="5394240"/>
                <a:chExt cx="1205640" cy="131580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5408280" y="5394240"/>
                  <a:ext cx="1098720" cy="822240"/>
                </a:xfrm>
                <a:prstGeom prst="line">
                  <a:avLst/>
                </a:prstGeom>
                <a:ln cap="sq" w="25560">
                  <a:solidFill>
                    <a:srgbClr val="ffcc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H="1" flipV="1">
                  <a:off x="5301360" y="5482800"/>
                  <a:ext cx="4680" cy="1227240"/>
                </a:xfrm>
                <a:prstGeom prst="line">
                  <a:avLst/>
                </a:prstGeom>
                <a:ln cap="sq" w="25560">
                  <a:solidFill>
                    <a:srgbClr val="ffcc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" name=""/>
              <p:cNvSpPr/>
              <p:nvPr/>
            </p:nvSpPr>
            <p:spPr>
              <a:xfrm flipH="1">
                <a:off x="4541760" y="5715000"/>
                <a:ext cx="457200" cy="1143000"/>
              </a:xfrm>
              <a:prstGeom prst="line">
                <a:avLst/>
              </a:prstGeom>
              <a:ln w="31680">
                <a:solidFill>
                  <a:srgbClr val="ff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578560" y="5273640"/>
                <a:ext cx="1098360" cy="822240"/>
              </a:xfrm>
              <a:prstGeom prst="line">
                <a:avLst/>
              </a:prstGeom>
              <a:ln w="31680">
                <a:solidFill>
                  <a:srgbClr val="ff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5684760" y="4419360"/>
                <a:ext cx="1371600" cy="533160"/>
              </a:xfrm>
              <a:prstGeom prst="line">
                <a:avLst/>
              </a:prstGeom>
              <a:ln w="31680">
                <a:solidFill>
                  <a:srgbClr val="ff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6049800" y="4267080"/>
              <a:ext cx="6098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3300"/>
                  </a:solidFill>
                  <a:latin typeface="Arial"/>
                </a:rPr>
                <a:t>?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73640" y="6019920"/>
              <a:ext cx="6094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3300"/>
                  </a:solidFill>
                  <a:latin typeface="Arial"/>
                </a:rPr>
                <a:t>?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3262320" y="477216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V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209680" y="2209680"/>
            <a:ext cx="3002040" cy="2743200"/>
            <a:chOff x="2209680" y="2209680"/>
            <a:chExt cx="3002040" cy="2743200"/>
          </a:xfrm>
        </p:grpSpPr>
        <p:grpSp>
          <p:nvGrpSpPr>
            <p:cNvPr id="143" name=""/>
            <p:cNvGrpSpPr/>
            <p:nvPr/>
          </p:nvGrpSpPr>
          <p:grpSpPr>
            <a:xfrm>
              <a:off x="2209680" y="2438280"/>
              <a:ext cx="3002040" cy="2514600"/>
              <a:chOff x="2209680" y="2438280"/>
              <a:chExt cx="3002040" cy="2514600"/>
            </a:xfrm>
          </p:grpSpPr>
          <p:sp>
            <p:nvSpPr>
              <p:cNvPr id="144" name=""/>
              <p:cNvSpPr/>
              <p:nvPr/>
            </p:nvSpPr>
            <p:spPr>
              <a:xfrm>
                <a:off x="2438280" y="4800600"/>
                <a:ext cx="2057400" cy="152280"/>
              </a:xfrm>
              <a:prstGeom prst="line">
                <a:avLst/>
              </a:prstGeom>
              <a:ln cap="sq" w="38160">
                <a:solidFill>
                  <a:srgbClr val="ffcc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971800" y="3124080"/>
                <a:ext cx="1282680" cy="1158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429000" y="3290760"/>
                <a:ext cx="60948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3300"/>
                    </a:solidFill>
                    <a:latin typeface="Arial"/>
                  </a:rPr>
                  <a:t>?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9680" y="4343400"/>
                <a:ext cx="1828800" cy="457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743200" y="4114800"/>
                <a:ext cx="60948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3300"/>
                    </a:solidFill>
                    <a:latin typeface="Arial"/>
                  </a:rPr>
                  <a:t>?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297320" y="2514600"/>
                <a:ext cx="762120" cy="1905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02240" y="3124080"/>
                <a:ext cx="60948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3300"/>
                    </a:solidFill>
                    <a:latin typeface="Arial"/>
                  </a:rPr>
                  <a:t>?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809880" y="2438280"/>
                <a:ext cx="990720" cy="2057400"/>
              </a:xfrm>
              <a:prstGeom prst="line">
                <a:avLst/>
              </a:prstGeom>
              <a:ln cap="sq" w="38160">
                <a:solidFill>
                  <a:srgbClr val="ffcc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2590920" y="2209680"/>
              <a:ext cx="2057400" cy="24386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0" y="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33"/>
                </a:solidFill>
                <a:latin typeface="Tahoma"/>
              </a:rPr>
              <a:t>Las funciones del área de Vinculación Tecnológ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9b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00"/>
                </a:solidFill>
                <a:latin typeface="Tahoma"/>
              </a:rPr>
              <a:t>Los desafíos …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Interpretar y traducir las demandas y los problemas del medio productivo loc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Identificar los conocimientos y capacidades necesarios para encarar los proble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Conocer las capacidades existentes en la universidad y su disposición para resolver problem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Articular problemas con capacid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48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523880" y="16002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vers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1295280"/>
            <a:ext cx="4678200" cy="4678560"/>
          </a:xfrm>
          <a:prstGeom prst="ellipse">
            <a:avLst/>
          </a:pr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02240" y="4648320"/>
            <a:ext cx="701640" cy="701640"/>
          </a:xfrm>
          <a:prstGeom prst="ellipse">
            <a:avLst/>
          </a:prstGeom>
          <a:solidFill>
            <a:srgbClr val="2b5481"/>
          </a:solidFill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373640" y="4267080"/>
            <a:ext cx="2682720" cy="2590920"/>
            <a:chOff x="4373640" y="4267080"/>
            <a:chExt cx="2682720" cy="2590920"/>
          </a:xfrm>
        </p:grpSpPr>
        <p:sp>
          <p:nvSpPr>
            <p:cNvPr id="160" name=""/>
            <p:cNvSpPr/>
            <p:nvPr/>
          </p:nvSpPr>
          <p:spPr>
            <a:xfrm>
              <a:off x="5987880" y="5318280"/>
              <a:ext cx="6098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3300"/>
                  </a:solidFill>
                  <a:latin typeface="Arial"/>
                </a:rPr>
                <a:t>?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4541760" y="4419360"/>
              <a:ext cx="2514600" cy="2438640"/>
              <a:chOff x="4541760" y="4419360"/>
              <a:chExt cx="2514600" cy="2438640"/>
            </a:xfrm>
          </p:grpSpPr>
          <p:sp>
            <p:nvSpPr>
              <p:cNvPr id="162" name=""/>
              <p:cNvSpPr/>
              <p:nvPr/>
            </p:nvSpPr>
            <p:spPr>
              <a:xfrm flipH="1">
                <a:off x="5557680" y="5259600"/>
                <a:ext cx="1228680" cy="5400"/>
              </a:xfrm>
              <a:prstGeom prst="line">
                <a:avLst/>
              </a:prstGeom>
              <a:ln cap="sq" w="25560">
                <a:solidFill>
                  <a:srgbClr val="ffcc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3" name=""/>
              <p:cNvGrpSpPr/>
              <p:nvPr/>
            </p:nvGrpSpPr>
            <p:grpSpPr>
              <a:xfrm>
                <a:off x="5301360" y="5394240"/>
                <a:ext cx="1205640" cy="1315800"/>
                <a:chOff x="5301360" y="5394240"/>
                <a:chExt cx="1205640" cy="131580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5408280" y="5394240"/>
                  <a:ext cx="1098720" cy="822240"/>
                </a:xfrm>
                <a:prstGeom prst="line">
                  <a:avLst/>
                </a:prstGeom>
                <a:ln cap="sq" w="25560">
                  <a:solidFill>
                    <a:srgbClr val="ffcc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 flipV="1">
                  <a:off x="5301360" y="5482800"/>
                  <a:ext cx="4680" cy="1227240"/>
                </a:xfrm>
                <a:prstGeom prst="line">
                  <a:avLst/>
                </a:prstGeom>
                <a:ln cap="sq" w="25560">
                  <a:solidFill>
                    <a:srgbClr val="ffcc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 flipH="1">
                <a:off x="4541760" y="5715000"/>
                <a:ext cx="457200" cy="1143000"/>
              </a:xfrm>
              <a:prstGeom prst="line">
                <a:avLst/>
              </a:prstGeom>
              <a:ln w="31680">
                <a:solidFill>
                  <a:srgbClr val="ff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578560" y="5273640"/>
                <a:ext cx="1098360" cy="822240"/>
              </a:xfrm>
              <a:prstGeom prst="line">
                <a:avLst/>
              </a:prstGeom>
              <a:ln w="31680">
                <a:solidFill>
                  <a:srgbClr val="ff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5684760" y="4419360"/>
                <a:ext cx="1371600" cy="533160"/>
              </a:xfrm>
              <a:prstGeom prst="line">
                <a:avLst/>
              </a:prstGeom>
              <a:ln w="31680">
                <a:solidFill>
                  <a:srgbClr val="ff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6049800" y="4267080"/>
              <a:ext cx="6098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3300"/>
                  </a:solidFill>
                  <a:latin typeface="Arial"/>
                </a:rPr>
                <a:t>?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373640" y="6019920"/>
              <a:ext cx="6094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3300"/>
                  </a:solidFill>
                  <a:latin typeface="Arial"/>
                </a:rPr>
                <a:t>?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364000" y="623880"/>
            <a:ext cx="3429000" cy="4024440"/>
            <a:chOff x="5364000" y="623880"/>
            <a:chExt cx="3429000" cy="4024440"/>
          </a:xfrm>
        </p:grpSpPr>
        <p:sp>
          <p:nvSpPr>
            <p:cNvPr id="172" name=""/>
            <p:cNvSpPr/>
            <p:nvPr/>
          </p:nvSpPr>
          <p:spPr>
            <a:xfrm flipV="1">
              <a:off x="5364000" y="1295280"/>
              <a:ext cx="2819520" cy="3353040"/>
            </a:xfrm>
            <a:prstGeom prst="line">
              <a:avLst/>
            </a:prstGeom>
            <a:ln w="507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83520" y="623880"/>
              <a:ext cx="609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00"/>
                  </a:solidFill>
                  <a:latin typeface="Arial"/>
                </a:rPr>
                <a:t>?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3262320" y="477216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V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209680" y="2209680"/>
            <a:ext cx="3002040" cy="2743200"/>
            <a:chOff x="2209680" y="2209680"/>
            <a:chExt cx="3002040" cy="2743200"/>
          </a:xfrm>
        </p:grpSpPr>
        <p:grpSp>
          <p:nvGrpSpPr>
            <p:cNvPr id="176" name=""/>
            <p:cNvGrpSpPr/>
            <p:nvPr/>
          </p:nvGrpSpPr>
          <p:grpSpPr>
            <a:xfrm>
              <a:off x="2209680" y="2438280"/>
              <a:ext cx="3002040" cy="2514600"/>
              <a:chOff x="2209680" y="2438280"/>
              <a:chExt cx="3002040" cy="2514600"/>
            </a:xfrm>
          </p:grpSpPr>
          <p:sp>
            <p:nvSpPr>
              <p:cNvPr id="177" name=""/>
              <p:cNvSpPr/>
              <p:nvPr/>
            </p:nvSpPr>
            <p:spPr>
              <a:xfrm>
                <a:off x="2438280" y="4800600"/>
                <a:ext cx="2057400" cy="152280"/>
              </a:xfrm>
              <a:prstGeom prst="line">
                <a:avLst/>
              </a:prstGeom>
              <a:ln cap="sq" w="38160">
                <a:solidFill>
                  <a:srgbClr val="ffcc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971800" y="3124080"/>
                <a:ext cx="1282680" cy="1158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429000" y="3290760"/>
                <a:ext cx="60948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3300"/>
                    </a:solidFill>
                    <a:latin typeface="Arial"/>
                  </a:rPr>
                  <a:t>?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209680" y="4343400"/>
                <a:ext cx="1828800" cy="457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743200" y="4114800"/>
                <a:ext cx="60948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3300"/>
                    </a:solidFill>
                    <a:latin typeface="Arial"/>
                  </a:rPr>
                  <a:t>?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297320" y="2514600"/>
                <a:ext cx="762120" cy="1905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602240" y="3124080"/>
                <a:ext cx="60948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3300"/>
                    </a:solidFill>
                    <a:latin typeface="Arial"/>
                  </a:rPr>
                  <a:t>?</a:t>
                </a:r>
                <a:endParaRPr b="0" lang="en-US" sz="2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809880" y="2438280"/>
                <a:ext cx="990720" cy="2057400"/>
              </a:xfrm>
              <a:prstGeom prst="line">
                <a:avLst/>
              </a:prstGeom>
              <a:ln cap="sq" w="38160">
                <a:solidFill>
                  <a:srgbClr val="ffcc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2590920" y="2209680"/>
              <a:ext cx="2057400" cy="24386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9b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7b835"/>
                </a:solidFill>
                <a:latin typeface="Tahoma"/>
              </a:rPr>
              <a:t>Cooperación entre las “areas de vinculación” de las universidade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19:06:50Z</dcterms:created>
  <dc:creator>Carlos Abeledo</dc:creator>
  <dc:description/>
  <dc:language>en-US</dc:language>
  <cp:lastModifiedBy>Abeledo</cp:lastModifiedBy>
  <dcterms:modified xsi:type="dcterms:W3CDTF">2007-09-26T02:27:42Z</dcterms:modified>
  <cp:revision>10</cp:revision>
  <dc:subject/>
  <dc:title>Red de areas de vinculacion como núcleo de sistema de extensión tecnológica</dc:title>
</cp:coreProperties>
</file>